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This%20is%20Jeopardy.wav" ContentType="audio/x-wav"/>
  <Override PartName="/ppt/media/image4.png" ContentType="image/png"/>
  <Override PartName="/ppt/media/image8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5.pct" ContentType="image/x-pict"/>
  <Override PartName="/ppt/media/image6.pct" ContentType="image/x-pict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120D-ED45-41EF-8E37-7D32F24BA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7891-BAAB-4768-B9FE-B85EEED2C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D010-F4B6-4642-A297-E2D881C62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8EDA-D031-4442-94E0-8DC923799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94E4-80FB-4DCA-956D-B565A5022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2A60-AB93-43EF-B845-65845B357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163C-501E-4D75-BC03-B044E2211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A082-921E-4075-87F3-1DEFE00BA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7A7E-D0A9-4C7B-8345-45A234193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0684-236A-4F8D-88A7-776C9467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C23B-47A1-4F53-BDB5-7237F75B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DEFC-38B0-4E67-B9CE-3178B0B4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B9410-8A9E-4758-AC9C-C78A45FB3624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audio" Target="../media/This%20is%20Jeopardy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" Target="slide54.xml"/><Relationship Id="rId6" Type="http://schemas.openxmlformats.org/officeDocument/2006/relationships/slide" Target="slide54.xml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14.xml"/><Relationship Id="rId10" Type="http://schemas.openxmlformats.org/officeDocument/2006/relationships/slide" Target="slide24.xml"/><Relationship Id="rId11" Type="http://schemas.openxmlformats.org/officeDocument/2006/relationships/slide" Target="slide34.xml"/><Relationship Id="rId12" Type="http://schemas.openxmlformats.org/officeDocument/2006/relationships/slide" Target="slide44.xml"/><Relationship Id="rId13" Type="http://schemas.openxmlformats.org/officeDocument/2006/relationships/slide" Target="slide16.xml"/><Relationship Id="rId14" Type="http://schemas.openxmlformats.org/officeDocument/2006/relationships/slide" Target="slide26.xml"/><Relationship Id="rId15" Type="http://schemas.openxmlformats.org/officeDocument/2006/relationships/slide" Target="slide36.xml"/><Relationship Id="rId16" Type="http://schemas.openxmlformats.org/officeDocument/2006/relationships/slide" Target="slide46.xml"/><Relationship Id="rId17" Type="http://schemas.openxmlformats.org/officeDocument/2006/relationships/slide" Target="slide18.xml"/><Relationship Id="rId18" Type="http://schemas.openxmlformats.org/officeDocument/2006/relationships/slide" Target="slide20.xml"/><Relationship Id="rId19" Type="http://schemas.openxmlformats.org/officeDocument/2006/relationships/slide" Target="slide22.xml"/><Relationship Id="rId20" Type="http://schemas.openxmlformats.org/officeDocument/2006/relationships/slide" Target="slide28.xml"/><Relationship Id="rId21" Type="http://schemas.openxmlformats.org/officeDocument/2006/relationships/slide" Target="slide38.xml"/><Relationship Id="rId22" Type="http://schemas.openxmlformats.org/officeDocument/2006/relationships/slide" Target="slide48.xml"/><Relationship Id="rId23" Type="http://schemas.openxmlformats.org/officeDocument/2006/relationships/slide" Target="slide30.xml"/><Relationship Id="rId24" Type="http://schemas.openxmlformats.org/officeDocument/2006/relationships/slide" Target="slide40.xml"/><Relationship Id="rId25" Type="http://schemas.openxmlformats.org/officeDocument/2006/relationships/slide" Target="slide50.xml"/><Relationship Id="rId26" Type="http://schemas.openxmlformats.org/officeDocument/2006/relationships/slide" Target="slide32.xml"/><Relationship Id="rId27" Type="http://schemas.openxmlformats.org/officeDocument/2006/relationships/slide" Target="slide42.xml"/><Relationship Id="rId28" Type="http://schemas.openxmlformats.org/officeDocument/2006/relationships/slide" Target="slide52.xml"/><Relationship Id="rId29" Type="http://schemas.openxmlformats.org/officeDocument/2006/relationships/slide" Target="slide2.xml"/><Relationship Id="rId30" Type="http://schemas.openxmlformats.org/officeDocument/2006/relationships/image" Target="../media/image2.png"/><Relationship Id="rId31" Type="http://schemas.openxmlformats.org/officeDocument/2006/relationships/slide" Target="slide2.xml"/><Relationship Id="rId3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304920"/>
            <a:ext cx="678204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Jeopard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3200400"/>
            <a:ext cx="8382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Choose a category.  </a:t>
            </a:r>
            <a:endParaRPr b="0" lang="en-US" sz="48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You will be given the answer.  </a:t>
            </a:r>
            <a:endParaRPr b="0" lang="en-US" sz="48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You must give the correct question.</a:t>
            </a:r>
            <a:endParaRPr b="0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867280" y="5334120"/>
            <a:ext cx="2743200" cy="1218960"/>
          </a:xfrm>
          <a:custGeom>
            <a:avLst/>
            <a:gdLst>
              <a:gd name="textAreaLeft" fmla="*/ 78840 w 2743200"/>
              <a:gd name="textAreaRight" fmla="*/ 2664360 w 274320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48602" h="21600">
                <a:moveTo>
                  <a:pt x="0" y="0"/>
                </a:moveTo>
                <a:lnTo>
                  <a:pt x="48602" y="0"/>
                </a:lnTo>
                <a:lnTo>
                  <a:pt x="48602" y="21600"/>
                </a:lnTo>
                <a:lnTo>
                  <a:pt x="0" y="21600"/>
                </a:lnTo>
                <a:close/>
              </a:path>
              <a:path fill="lightenLess" w="48602" h="21600">
                <a:moveTo>
                  <a:pt x="0" y="0"/>
                </a:moveTo>
                <a:lnTo>
                  <a:pt x="48602" y="0"/>
                </a:lnTo>
                <a:lnTo>
                  <a:pt x="47202" y="1400"/>
                </a:lnTo>
                <a:lnTo>
                  <a:pt x="1400" y="1400"/>
                </a:lnTo>
                <a:close/>
              </a:path>
              <a:path fill="darken" w="48602" h="21600">
                <a:moveTo>
                  <a:pt x="48602" y="0"/>
                </a:moveTo>
                <a:lnTo>
                  <a:pt x="48602" y="21600"/>
                </a:lnTo>
                <a:lnTo>
                  <a:pt x="47202" y="20200"/>
                </a:lnTo>
                <a:lnTo>
                  <a:pt x="47202" y="1400"/>
                </a:lnTo>
                <a:close/>
              </a:path>
              <a:path fill="darkenLess" w="48602" h="21600">
                <a:moveTo>
                  <a:pt x="486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2" y="20200"/>
                </a:lnTo>
                <a:close/>
              </a:path>
              <a:path fill="lighten" w="486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" action="ppaction://hlinksldjump"/>
              </a:rPr>
              <a:t>Click to begin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his%20is%20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1752480"/>
            <a:ext cx="8381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220968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Times New Roman"/>
              </a:rPr>
              <a:t>What does the autonomic nervous system control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905120"/>
            <a:ext cx="784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cc"/>
                </a:solidFill>
                <a:latin typeface="Times New Roman"/>
              </a:rPr>
              <a:t>Involuntary motion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38080" y="1066680"/>
            <a:ext cx="7391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1447920"/>
            <a:ext cx="7848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Times New Roman"/>
              </a:rPr>
              <a:t>What are the 2 types of autonomic motion and what do they do?</a:t>
            </a:r>
            <a:endParaRPr b="0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609480"/>
            <a:ext cx="784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cc"/>
                </a:solidFill>
                <a:latin typeface="Times New Roman"/>
              </a:rPr>
              <a:t>Sympathetic- allows body to function under stress (fight or flight)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cc"/>
                </a:solidFill>
                <a:latin typeface="Times New Roman"/>
              </a:rPr>
              <a:t>Parasympathetic- calms body back down after stress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1905120"/>
            <a:ext cx="71913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2057400"/>
            <a:ext cx="7924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Times New Roman"/>
              </a:rPr>
              <a:t>What is a concussion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Times New Roman"/>
              </a:rPr>
              <a:t>It’s a brain injury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1905120"/>
            <a:ext cx="7696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Times New Roman"/>
              </a:rPr>
              <a:t>Where does the concussion results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2133720"/>
            <a:ext cx="78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cc"/>
                </a:solidFill>
                <a:latin typeface="Times New Roman"/>
              </a:rPr>
              <a:t>It results with injures to the neck and the spine</a:t>
            </a:r>
            <a:endParaRPr b="0" lang="en-US" sz="5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1981080"/>
            <a:ext cx="7925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Times New Roman"/>
              </a:rPr>
              <a:t>What is a spinal cord injury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1295280"/>
            <a:ext cx="78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Times New Roman"/>
              </a:rPr>
              <a:t>It’s a damage in the spinal cord that can make you loss   your sensation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0"/>
            <a:ext cx="57150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Choose a point value.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523880" y="1981080"/>
            <a:ext cx="57150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Choose a point value.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">
            <a:hlinkClick r:id="rId5" action="ppaction://hlinksldjump"/>
          </p:cNvPr>
          <p:cNvSpPr/>
          <p:nvPr/>
        </p:nvSpPr>
        <p:spPr>
          <a:xfrm>
            <a:off x="5562720" y="4724280"/>
            <a:ext cx="2971800" cy="1752840"/>
          </a:xfrm>
          <a:custGeom>
            <a:avLst/>
            <a:gdLst>
              <a:gd name="textAreaLeft" fmla="*/ 113400 w 2971800"/>
              <a:gd name="textAreaRight" fmla="*/ 2858400 w 2971800"/>
              <a:gd name="textAreaTop" fmla="*/ 113400 h 1752840"/>
              <a:gd name="textAreaBottom" fmla="*/ 1639440 h 1752840"/>
            </a:gdLst>
            <a:ahLst/>
            <a:rect l="textAreaLeft" t="textAreaTop" r="textAreaRight" b="textAreaBottom"/>
            <a:pathLst>
              <a:path w="36618" h="21600">
                <a:moveTo>
                  <a:pt x="0" y="0"/>
                </a:moveTo>
                <a:lnTo>
                  <a:pt x="36618" y="0"/>
                </a:lnTo>
                <a:lnTo>
                  <a:pt x="36618" y="21600"/>
                </a:lnTo>
                <a:lnTo>
                  <a:pt x="0" y="21600"/>
                </a:lnTo>
                <a:close/>
              </a:path>
              <a:path fill="lightenLess" w="36618" h="21600">
                <a:moveTo>
                  <a:pt x="0" y="0"/>
                </a:moveTo>
                <a:lnTo>
                  <a:pt x="36618" y="0"/>
                </a:lnTo>
                <a:lnTo>
                  <a:pt x="35218" y="1400"/>
                </a:lnTo>
                <a:lnTo>
                  <a:pt x="1400" y="1400"/>
                </a:lnTo>
                <a:close/>
              </a:path>
              <a:path fill="darken" w="36618" h="21600">
                <a:moveTo>
                  <a:pt x="36618" y="0"/>
                </a:moveTo>
                <a:lnTo>
                  <a:pt x="36618" y="21600"/>
                </a:lnTo>
                <a:lnTo>
                  <a:pt x="35218" y="20200"/>
                </a:lnTo>
                <a:lnTo>
                  <a:pt x="35218" y="1400"/>
                </a:lnTo>
                <a:close/>
              </a:path>
              <a:path fill="darkenLess" w="36618" h="21600">
                <a:moveTo>
                  <a:pt x="36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218" y="20200"/>
                </a:lnTo>
                <a:close/>
              </a:path>
              <a:path fill="lighten" w="36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791320" y="51055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9933"/>
                </a:solidFill>
                <a:uFillTx/>
                <a:latin typeface="Times New Roman"/>
                <a:hlinkClick r:id="rId6" action="ppaction://hlinksldjump"/>
              </a:rPr>
              <a:t>Click here for Final Jeopardy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25909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Times New Roman"/>
              </a:rPr>
              <a:t>Who can get it??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Times New Roman"/>
              </a:rPr>
              <a:t>It can happen to anyone 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1905120"/>
            <a:ext cx="8076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Times New Roman"/>
              </a:rPr>
              <a:t>When can someone get it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213372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cc"/>
                </a:solidFill>
                <a:latin typeface="Times New Roman"/>
              </a:rPr>
              <a:t>They can get it in any age</a:t>
            </a:r>
            <a:endParaRPr b="0" lang="en-US" sz="5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129528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Times New Roman"/>
              </a:rPr>
              <a:t>Which disease can be prevented by taking folic acids when pregnant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Times New Roman"/>
              </a:rPr>
              <a:t>Spina Bifida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13716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Times New Roman"/>
              </a:rPr>
              <a:t>When does Multiple Sclerosis occur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Times New Roman"/>
              </a:rPr>
              <a:t>Between the late 20s and early 40s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286000"/>
            <a:ext cx="7924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Times New Roman"/>
              </a:rPr>
              <a:t>As we age, what happens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90512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Times New Roman"/>
              </a:rPr>
              <a:t>Neurons die from normal wear, tear and injury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>
            <a:hlinkClick r:id="rId1" action="ppaction://hlinksldjump"/>
          </p:cNvPr>
          <p:cNvSpPr/>
          <p:nvPr/>
        </p:nvSpPr>
        <p:spPr>
          <a:xfrm>
            <a:off x="182880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Sudden</a:t>
            </a:r>
            <a:r>
              <a:rPr b="1" lang="en-US" sz="1800" spc="-1" strike="noStrike">
                <a:solidFill>
                  <a:srgbClr val="ff66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Illness</a:t>
            </a:r>
            <a:r>
              <a:rPr b="1" lang="en-US" sz="1800" spc="-1" strike="noStrike">
                <a:solidFill>
                  <a:srgbClr val="ff66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and</a:t>
            </a:r>
            <a:r>
              <a:rPr b="1" lang="en-US" sz="1800" spc="-1" strike="noStrike">
                <a:solidFill>
                  <a:srgbClr val="ff66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1st</a:t>
            </a:r>
            <a:r>
              <a:rPr b="1" lang="en-US" sz="1800" spc="-1" strike="noStrike">
                <a:solidFill>
                  <a:srgbClr val="ff66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Aid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" name="">
            <a:hlinkClick r:id="rId2" action="ppaction://hlinksldjump"/>
          </p:cNvPr>
          <p:cNvSpPr/>
          <p:nvPr/>
        </p:nvSpPr>
        <p:spPr>
          <a:xfrm>
            <a:off x="548640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Vocabulary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0" name="">
            <a:hlinkClick r:id="rId3" action="ppaction://hlinksldjump"/>
          </p:cNvPr>
          <p:cNvSpPr/>
          <p:nvPr/>
        </p:nvSpPr>
        <p:spPr>
          <a:xfrm>
            <a:off x="734364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Identify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The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Pictur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4" action="ppaction://hlinksldjump"/>
              </a:rPr>
              <a:t>10 Poi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5" action="ppaction://hlinksldjump"/>
              </a:rPr>
              <a:t>2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6" action="ppaction://hlinksldjump"/>
              </a:rPr>
              <a:t>3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7" action="ppaction://hlinksldjump"/>
              </a:rPr>
              <a:t>4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8" action="ppaction://hlinksldjump"/>
              </a:rPr>
              <a:t>5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9" action="ppaction://hlinksldjump"/>
              </a:rPr>
              <a:t>10 Poi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65760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0" action="ppaction://hlinksldjump"/>
              </a:rPr>
              <a:t>10 Poi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8640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1" action="ppaction://hlinksldjump"/>
              </a:rPr>
              <a:t>10 Poi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34364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2" action="ppaction://hlinksldjump"/>
              </a:rPr>
              <a:t>10 Poi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2880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3" action="ppaction://hlinksldjump"/>
              </a:rPr>
              <a:t>2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5760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4" action="ppaction://hlinksldjump"/>
              </a:rPr>
              <a:t>2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8640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5" action="ppaction://hlinksldjump"/>
              </a:rPr>
              <a:t>2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34364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6" action="ppaction://hlinksldjump"/>
              </a:rPr>
              <a:t>2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2880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7" action="ppaction://hlinksldjump"/>
              </a:rPr>
              <a:t>3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2880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8" action="ppaction://hlinksldjump"/>
              </a:rPr>
              <a:t>4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2880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9" action="ppaction://hlinksldjump"/>
              </a:rPr>
              <a:t>5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5760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0" action="ppaction://hlinksldjump"/>
              </a:rPr>
              <a:t>3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48640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1" action="ppaction://hlinksldjump"/>
              </a:rPr>
              <a:t>3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34364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2" action="ppaction://hlinksldjump"/>
              </a:rPr>
              <a:t>3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5760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3" action="ppaction://hlinksldjump"/>
              </a:rPr>
              <a:t>4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8640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4" action="ppaction://hlinksldjump"/>
              </a:rPr>
              <a:t>4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4364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5" action="ppaction://hlinksldjump"/>
              </a:rPr>
              <a:t>4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5760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6" action="ppaction://hlinksldjump"/>
              </a:rPr>
              <a:t>5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7" action="ppaction://hlinksldjump"/>
              </a:rPr>
              <a:t>5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34364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8" action="ppaction://hlinksldjump"/>
              </a:rPr>
              <a:t>5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6" name="">
            <a:hlinkClick r:id="rId29" action="ppaction://hlinksldjump"/>
          </p:cNvPr>
          <p:cNvSpPr/>
          <p:nvPr/>
        </p:nvSpPr>
        <p:spPr>
          <a:xfrm>
            <a:off x="365760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Diseases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Disorder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0"/>
          <a:stretch/>
        </p:blipFill>
        <p:spPr>
          <a:xfrm>
            <a:off x="68580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8" name="">
            <a:hlinkClick r:id="rId31" action="ppaction://hlinksldjump"/>
          </p:cNvPr>
          <p:cNvSpPr/>
          <p:nvPr/>
        </p:nvSpPr>
        <p:spPr>
          <a:xfrm>
            <a:off x="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Structur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And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Function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3520" y="1295280"/>
            <a:ext cx="8076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Times New Roman"/>
              </a:rPr>
              <a:t>What are the 3 surgical treatments for Parkinson’s Disease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1371600"/>
            <a:ext cx="78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Times New Roman"/>
              </a:rPr>
              <a:t>Pallidotomy, Thalamotomy and Deep-Brain Stimulation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1752480"/>
            <a:ext cx="8076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Times New Roman"/>
              </a:rPr>
              <a:t>What kind of brain disorder is Epilepsy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Times New Roman"/>
              </a:rPr>
              <a:t>Seizure Disorder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2120" y="266688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Times New Roman"/>
              </a:rPr>
              <a:t>What is Ictus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cc"/>
                </a:solidFill>
                <a:latin typeface="Times New Roman"/>
              </a:rPr>
              <a:t>The whole Epileptic Seizure</a:t>
            </a:r>
            <a:endParaRPr b="0" lang="en-US" sz="5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26668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Times New Roman"/>
              </a:rPr>
              <a:t>What is Post-Ictus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182880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Times New Roman"/>
              </a:rPr>
              <a:t>The time period after an Epileptic seizure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2120" y="1981080"/>
            <a:ext cx="7619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Times New Roman"/>
              </a:rPr>
              <a:t>What is a sensory nerve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9480" y="1600200"/>
            <a:ext cx="7848720" cy="41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700" spc="-1" strike="noStrike">
                <a:solidFill>
                  <a:srgbClr val="ff66cc"/>
                </a:solidFill>
                <a:latin typeface="Times New Roman"/>
              </a:rPr>
              <a:t>Nerves that send messages to the brain through the spinal cord</a:t>
            </a: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219320"/>
            <a:ext cx="7848720" cy="33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cc"/>
                </a:solidFill>
                <a:latin typeface="Times New Roman"/>
              </a:rPr>
              <a:t>Brain, Spinal cord, and nerves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981080"/>
            <a:ext cx="815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Times New Roman"/>
              </a:rPr>
              <a:t>What is a motor nerve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1066680"/>
            <a:ext cx="78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Times New Roman"/>
              </a:rPr>
              <a:t>Nerves that carry impulses from the brain to the muscles and glands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160020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Times New Roman"/>
              </a:rPr>
              <a:t>What’s the MRA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213372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Times New Roman"/>
              </a:rPr>
              <a:t>It’s the Magnetinc Resonace Angiography 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24080" y="2590920"/>
            <a:ext cx="77724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66cc"/>
                </a:solidFill>
                <a:latin typeface="Times New Roman"/>
              </a:rPr>
              <a:t>What is this?</a:t>
            </a:r>
            <a:endParaRPr b="0" lang="en-US" sz="4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962520" y="457200"/>
            <a:ext cx="11588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2133720"/>
            <a:ext cx="784872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ff66cc"/>
                </a:solidFill>
                <a:latin typeface="Times New Roman"/>
              </a:rPr>
              <a:t>The Spinal Cord</a:t>
            </a:r>
            <a:endParaRPr b="0" lang="en-US" sz="59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971800" y="2743200"/>
            <a:ext cx="746748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ff66cc"/>
                </a:solidFill>
                <a:latin typeface="Times New Roman"/>
              </a:rPr>
              <a:t>What is this?</a:t>
            </a:r>
            <a:endParaRPr b="0" lang="en-US" sz="51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381024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Times New Roman"/>
              </a:rPr>
              <a:t>The brain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09680" y="821160"/>
            <a:ext cx="510084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66cc"/>
                </a:solidFill>
                <a:latin typeface="Times New Roman"/>
              </a:rPr>
              <a:t>What are these 3 parts of the brain called?</a:t>
            </a:r>
            <a:endParaRPr b="0" lang="en-US" sz="35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828800" y="2362320"/>
            <a:ext cx="557532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2120" y="83808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Times New Roman"/>
              </a:rPr>
              <a:t>The STN, Thalamus, &amp; Quiet Zone</a:t>
            </a:r>
            <a:endParaRPr b="0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685800" y="2590920"/>
            <a:ext cx="7924680" cy="28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41560" y="1128600"/>
            <a:ext cx="183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213372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cc"/>
                </a:solidFill>
                <a:latin typeface="Times New Roman"/>
              </a:rPr>
              <a:t>What are the three component of the central nervous system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533520"/>
            <a:ext cx="78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cc"/>
                </a:solidFill>
                <a:latin typeface="Times New Roman"/>
              </a:rPr>
              <a:t>What type of nerves are these?</a:t>
            </a:r>
            <a:endParaRPr b="0" lang="en-US" sz="5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828800" y="2286000"/>
            <a:ext cx="563868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2133720"/>
            <a:ext cx="78487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200" spc="-1" strike="noStrike">
                <a:solidFill>
                  <a:srgbClr val="ff66cc"/>
                </a:solidFill>
                <a:latin typeface="Times New Roman"/>
              </a:rPr>
              <a:t>Motor nerves</a:t>
            </a:r>
            <a:endParaRPr b="0" lang="en-US" sz="9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38088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Times New Roman"/>
              </a:rPr>
              <a:t>What type of nerves are these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057400" y="2514600"/>
            <a:ext cx="506736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" y="2133720"/>
            <a:ext cx="7848720" cy="14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700" spc="-1" strike="noStrike">
                <a:solidFill>
                  <a:srgbClr val="ff66cc"/>
                </a:solidFill>
                <a:latin typeface="Times New Roman"/>
              </a:rPr>
              <a:t>Sensory Nerves</a:t>
            </a:r>
            <a:endParaRPr b="0" lang="en-US" sz="87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066680" y="1752480"/>
            <a:ext cx="6858000" cy="3048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inal Jeopard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91" name=""/>
          <p:cNvSpPr/>
          <p:nvPr/>
        </p:nvSpPr>
        <p:spPr>
          <a:xfrm>
            <a:off x="4191120" y="5105520"/>
            <a:ext cx="3886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Make your wager</a:t>
            </a:r>
            <a:endParaRPr b="0" lang="en-US" sz="3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93" name="">
            <a:hlinkClick r:id="" action="ppaction://hlinkshowjump?jump=las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5800" y="1371600"/>
            <a:ext cx="78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Times New Roman"/>
              </a:rPr>
              <a:t>What doesn’t close properly in 1/1000 babies, who have Spina Bifida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" fill="hold"/>
                                        <p:tgtEl>
                                          <p:spTgt spid="1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85800" y="2133720"/>
            <a:ext cx="7848720" cy="12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900" spc="-1" strike="noStrike">
                <a:solidFill>
                  <a:srgbClr val="ff66cc"/>
                </a:solidFill>
                <a:latin typeface="Times New Roman"/>
              </a:rPr>
              <a:t>The Neural Tube</a:t>
            </a:r>
            <a:endParaRPr b="0" lang="en-US" sz="79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33"/>
                </a:solidFill>
                <a:latin typeface="Times New Roman"/>
              </a:rPr>
              <a:t>What do nerve impulses do?</a:t>
            </a:r>
            <a:endParaRPr b="0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2438280"/>
            <a:ext cx="8076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2133720"/>
            <a:ext cx="784872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cc"/>
                </a:solidFill>
                <a:latin typeface="Times New Roman"/>
              </a:rPr>
              <a:t>recieve and transmit information to and from nerve centers</a:t>
            </a:r>
            <a:endParaRPr b="0" lang="en-US" sz="54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8600" y="1981080"/>
            <a:ext cx="8610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1905120"/>
            <a:ext cx="7467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Times New Roman"/>
              </a:rPr>
              <a:t>What are the three main nervous systems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2133720"/>
            <a:ext cx="78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cc"/>
                </a:solidFill>
                <a:latin typeface="Times New Roman"/>
              </a:rPr>
              <a:t>Central, Somatic, and Autonomic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8T16:42:31Z</dcterms:created>
  <dc:creator>Valued Customer</dc:creator>
  <dc:description/>
  <dc:language>en-US</dc:language>
  <cp:lastModifiedBy>Jillian  Heyman</cp:lastModifiedBy>
  <dcterms:modified xsi:type="dcterms:W3CDTF">2010-03-17T00:33:48Z</dcterms:modified>
  <cp:revision>74</cp:revision>
  <dc:subject/>
  <dc:title>No Slide Title</dc:title>
</cp:coreProperties>
</file>